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3C4B-2F26-4873-87FC-C0033E4C60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Pl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LOG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d. -X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Pl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ion of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Leaf Base2. Petiole3. Lam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eaf Base2. Petiole3.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f 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 of leaf attached to the stem or branch is called- Leaf base. It protects a Bud in it’s axi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 of leaf attached to the stem or branch is called- Leaf base. It protects a Bud in it’s ax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tio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m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mode of arrangement / distribution of leaves on stem or it’s bran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lotxy ensures that leaves may receive maximum sunlight for photosynthes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mode of arrangement / distribution of leaves on stem or it’s bran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lotxy ensures that leaves may receive maximum sunlight for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uch case two leaves are present at each node, standing opposite to each other. It is of  two subtypes 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superp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ch case two leaves are present at each node, standing opposite to each other. It is of  two subtypes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super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pairs of leaves at each successive node are placed at right angle to each other. Eg. Ocimum, Calotropi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pairs of leaves at each successive node are placed at right angle to each other. Eg. Ocimum, Calotropi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y of the Leaf structure &amp; Phyllotaxy  in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of the Leaf structure &amp; Phyllotaxy  in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osite Superp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pairs of leaves at each successive node are placed over each other in same plane. Eg.Eugenia,Quisquali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osite Super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pairs of leaves at each successive node are placed over each other in same plane. Eg.Eugenia,Quisquali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rled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type more than two leaves are present at each node, forming a whorl. Ex. Oleander, Alstonia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rled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type more than two leaves are present at each node, forming a whorl. Ex. Oleander, Alstoni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o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reness  about the structure of a typical leaf &amp; the types of Phyllotaxy in plants for their mode of arran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reness  about the structure of a typical leaf &amp; the types of Phyllotaxy in plants for their mode of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egory &amp;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-45 minu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&amp;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4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utcom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ent’s awareness about the 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Typical leaf stru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Essentiality of various leaf parts in a pla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Familiarity about  Phyllotaxy in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’s awareness about th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ypical leaf 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Essentiality of various leaf parts in a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Familiarity about  Phyllotaxy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stion 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Give the definition of lea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What do you call the structure by which leaf is attached at pla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Give the technical term for the mode of arrangement of leaves on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How many types of arrangement of leaves in plants are ther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Give the definition of lea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What do you call the structure by which leaf is attached at pl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Give the technical term for the mode of arrangement of leaves on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How many types of arrangement of leaves in plants are the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29B7-100A-4A43-A922-7BA9B17C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478D-B1ED-4940-B8A5-2564201C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728-4457-4CFA-8EF8-E484FA2F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BD8-EEBC-4EA2-A3D6-6BFF6D39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597C-8F3C-49BB-914E-5257E87A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3554-8F85-44DF-96F5-16EB2D81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E043-B272-4195-8994-6332B533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C937-CFA3-4576-8D31-B22CFC1B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C398-A0FB-4429-A60B-1C3FA5B5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7B0A-4A73-48AF-9772-C93A6296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0D05-2035-454E-9E9B-F22B9DD5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2FB-0B3B-48BA-BBEF-EF77A75B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6009-C94F-406A-8330-C0C4FC9F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32B6-DA5F-4A43-8187-1BACE9A6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42B1-3076-4C2F-8FB3-3E93DD8B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0B48-2AFC-40E3-8FFF-1A692C7A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0E9A-DC67-4B0C-91EC-2195F144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88C-D77E-4531-A76C-C8CF7A4C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F3C7-A6ED-41B1-A1FD-36A05546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68D0-B5B7-4712-96F8-100C439D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38C-F666-4A78-946D-30900E2A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79B2-987F-4B45-8732-3163FD90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4F5-8572-4E94-9023-FB765FFC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F2C5-5A45-4E9E-A314-8A69AA0B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0FE4-D083-4815-8FE5-7D34D5642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04B4-E883-486F-8D45-6502989D4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hy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otany.org/plantimages/ImageData.asp?IDN=02-048h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botany.org/plantimages/ImageData.asp?IDN=02-063h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.in/imgres?imgurl=http://jacksonlab.cshl.edu/images/4.jpg&amp;imgrefurl=http://jacksonlab.cshl.edu/five.html&amp;h=2976&amp;w=2048&amp;sz=749&amp;tbnid=37grdxtnlqgJ:&amp;tbnh=149&amp;tbnw=103&amp;start=5&amp;prev=/images%3Fq%3Dphyllotaxy%26hl%3Den%26lr%3D%26ie%3DUTF-8%26sa%3D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.in/imgres?imgurl=http://www.ct-botanical-society.org/images/phyllotaxy2.gif&amp;imgrefurl=http://www.ct-botanical-society.org/newsletter/phyllotaxy.html&amp;h=300&amp;w=96&amp;sz=7&amp;tbnid=SjMyymQRlhAJ:&amp;tbnh=109&amp;tbnw=35&amp;start=29&amp;prev=/images%3Fq%3Dphyllotaxy%26start%3D20%26hl%3Den%26lr%3D%26ie%3DUTF-8%26sa%3DN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.in/imgres?imgurl=http://www.ct-botanical-society.org/images/phyllotaxy3.gif&amp;imgrefurl=http://www.ct-botanical-society.org/newsletter/phyllotaxy.html&amp;h=332&amp;w=96&amp;sz=8&amp;tbnid=dhFH0YCxzt8J:&amp;tbnh=114&amp;tbnw=33&amp;start=30&amp;prev=/images%3Fq%3Dphyllotaxy%26start%3D20%26hl%3Den%26lr%3D%26ie%3DUTF-8%26sa%3DN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sci.plu.edu/~jmain/b340web/pages/popposit.htm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../../../Program%20Files/Bhartiyavidya/Bhartiyavidya.exe" TargetMode="External"/><Relationship Id="rId2" Type="http://schemas.openxmlformats.org/officeDocument/2006/relationships/hyperlink" Target="file:///../../../../../Program%20Files/Bhartiyavidya/Bhartiyavidya.exe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Lesson Plan</a:t>
            </a:r>
            <a:br>
              <a:rPr sz="5400"/>
            </a:b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BIOLOGY</a:t>
            </a:r>
            <a:br>
              <a:rPr sz="4400"/>
            </a:b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Std. -X</a:t>
            </a:r>
            <a:r>
              <a:rPr b="0" i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I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lfwhorl"/>
          <p:cNvPicPr/>
          <p:nvPr/>
        </p:nvPicPr>
        <p:blipFill>
          <a:blip r:embed="rId1"/>
          <a:stretch/>
        </p:blipFill>
        <p:spPr>
          <a:xfrm>
            <a:off x="457200" y="457200"/>
            <a:ext cx="1600200" cy="2200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foppo"/>
          <p:cNvPicPr/>
          <p:nvPr/>
        </p:nvPicPr>
        <p:blipFill>
          <a:blip r:embed="rId2"/>
          <a:stretch/>
        </p:blipFill>
        <p:spPr>
          <a:xfrm>
            <a:off x="7086600" y="4343400"/>
            <a:ext cx="1523880" cy="211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aleaves"/>
          <p:cNvPicPr/>
          <p:nvPr/>
        </p:nvPicPr>
        <p:blipFill>
          <a:blip r:embed="rId3"/>
          <a:stretch/>
        </p:blipFill>
        <p:spPr>
          <a:xfrm>
            <a:off x="533520" y="5257800"/>
            <a:ext cx="5876640" cy="1057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685800"/>
          <a:ext cx="9067680" cy="5445000"/>
        </p:xfrm>
        <a:graphic>
          <a:graphicData uri="http://schemas.openxmlformats.org/drawingml/2006/table">
            <a:tbl>
              <a:tblPr/>
              <a:tblGrid>
                <a:gridCol w="3130560"/>
                <a:gridCol w="1123920"/>
                <a:gridCol w="1967040"/>
                <a:gridCol w="1550880"/>
                <a:gridCol w="1295280"/>
              </a:tblGrid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at El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Techni-c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 Collect some more leaf 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identify their venation, from y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ighboring area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 Categories different plant as monoc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&amp; dicot on the basis of venation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. Find out that all the leaves have al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three parts or not. If not, note dow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missing par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ollection of leaves samp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990720" y="216720"/>
            <a:ext cx="739116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Definition of Le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1" descr="http://www.cartage.org.lb/en/themes/Sciences/BotanicalSciences/PlantsStructure/PlantsStructure/plant.gif"/>
          <p:cNvPicPr/>
          <p:nvPr/>
        </p:nvPicPr>
        <p:blipFill>
          <a:blip r:embed="rId1"/>
          <a:stretch/>
        </p:blipFill>
        <p:spPr>
          <a:xfrm>
            <a:off x="685800" y="2971800"/>
            <a:ext cx="2610000" cy="3390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http://www.biologie.uni-hamburg.de/b-online/fo02/bl33a.jpg"/>
          <p:cNvPicPr/>
          <p:nvPr/>
        </p:nvPicPr>
        <p:blipFill>
          <a:blip r:embed="rId2"/>
          <a:stretch/>
        </p:blipFill>
        <p:spPr>
          <a:xfrm>
            <a:off x="4648320" y="2971800"/>
            <a:ext cx="2743200" cy="3429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1219320" y="4726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arts of the Lea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457200" y="1712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. Leaf Base2. Petiole3. Lam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bean_whole_morphology"/>
          <p:cNvPicPr/>
          <p:nvPr/>
        </p:nvPicPr>
        <p:blipFill>
          <a:blip r:embed="rId1"/>
          <a:stretch/>
        </p:blipFill>
        <p:spPr>
          <a:xfrm>
            <a:off x="2209680" y="2440080"/>
            <a:ext cx="4038840" cy="33512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1050840" y="6589800"/>
            <a:ext cx="49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11640" y="6019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1066680" y="4726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Leaf 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09480" y="137124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part of leaf attached to the stem or branch is called- Leaf base. It protects a Bud in it’s ax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bl57a"/>
          <p:cNvPicPr/>
          <p:nvPr/>
        </p:nvPicPr>
        <p:blipFill>
          <a:blip r:embed="rId1"/>
          <a:stretch/>
        </p:blipFill>
        <p:spPr>
          <a:xfrm>
            <a:off x="914400" y="3044880"/>
            <a:ext cx="1670040" cy="2168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bl33"/>
          <p:cNvPicPr/>
          <p:nvPr/>
        </p:nvPicPr>
        <p:blipFill>
          <a:blip r:embed="rId2"/>
          <a:stretch/>
        </p:blipFill>
        <p:spPr>
          <a:xfrm>
            <a:off x="3352680" y="3044880"/>
            <a:ext cx="1981440" cy="2168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bl33a"/>
          <p:cNvPicPr/>
          <p:nvPr/>
        </p:nvPicPr>
        <p:blipFill>
          <a:blip r:embed="rId3"/>
          <a:stretch/>
        </p:blipFill>
        <p:spPr>
          <a:xfrm>
            <a:off x="6248520" y="3044880"/>
            <a:ext cx="1966680" cy="2168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faleaves"/>
          <p:cNvPicPr/>
          <p:nvPr/>
        </p:nvPicPr>
        <p:blipFill>
          <a:blip r:embed="rId4"/>
          <a:stretch/>
        </p:blipFill>
        <p:spPr>
          <a:xfrm>
            <a:off x="685800" y="5867280"/>
            <a:ext cx="7924680" cy="6620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609480" y="51696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etio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57200" y="13874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pet-2"/>
          <p:cNvPicPr/>
          <p:nvPr/>
        </p:nvPicPr>
        <p:blipFill>
          <a:blip r:embed="rId1"/>
          <a:stretch/>
        </p:blipFill>
        <p:spPr>
          <a:xfrm>
            <a:off x="2590920" y="3051000"/>
            <a:ext cx="2965320" cy="2853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1295280" y="32004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Lam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228600" y="1214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Click on Image for JPG rendi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82800" y="2665440"/>
            <a:ext cx="2003400" cy="2671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Click on Image for JPG rendi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2665440"/>
            <a:ext cx="2209680" cy="26715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1600200" y="2134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Phyllotax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304920" y="143136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is the mode of arrangement / distribution of leaves on stem or it’s bra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hyllotxy ensures that leaves may receive maximum sunlight for photosynth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Organization Chart 8"/>
          <p:cNvGrpSpPr/>
          <p:nvPr/>
        </p:nvGrpSpPr>
        <p:grpSpPr>
          <a:xfrm>
            <a:off x="2477880" y="3708720"/>
            <a:ext cx="4037040" cy="1130040"/>
            <a:chOff x="2477880" y="3708720"/>
            <a:chExt cx="4037040" cy="1130040"/>
          </a:xfrm>
        </p:grpSpPr>
        <p:cxnSp>
          <p:nvCxnSpPr>
            <p:cNvPr id="193" name="_s1028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100120" y="3548520"/>
              <a:ext cx="228960" cy="14385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6" name="_s1029"/>
            <p:cNvCxnSpPr>
              <a:stCxn id="197" idx="0"/>
              <a:endCxn id="195" idx="2"/>
            </p:cNvCxnSpPr>
            <p:nvPr/>
          </p:nvCxnSpPr>
          <p:spPr>
            <a:xfrm flipV="1" rot="16200000">
              <a:off x="4381920" y="4266720"/>
              <a:ext cx="228960" cy="25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8" name="_s1030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3663720" y="3550320"/>
              <a:ext cx="228960" cy="14353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5" name="_s1031"/>
            <p:cNvSpPr/>
            <p:nvPr/>
          </p:nvSpPr>
          <p:spPr>
            <a:xfrm>
              <a:off x="3766320" y="3708720"/>
              <a:ext cx="1460160" cy="44496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Phyllotaxy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032"/>
            <p:cNvSpPr/>
            <p:nvPr/>
          </p:nvSpPr>
          <p:spPr>
            <a:xfrm>
              <a:off x="247788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Alterna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033"/>
            <p:cNvSpPr/>
            <p:nvPr/>
          </p:nvSpPr>
          <p:spPr>
            <a:xfrm>
              <a:off x="391464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Opposi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034"/>
            <p:cNvSpPr/>
            <p:nvPr/>
          </p:nvSpPr>
          <p:spPr>
            <a:xfrm>
              <a:off x="535176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Whorle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0" name="Picture 19" descr="faleaves"/>
          <p:cNvPicPr/>
          <p:nvPr/>
        </p:nvPicPr>
        <p:blipFill>
          <a:blip r:embed="rId1"/>
          <a:stretch/>
        </p:blipFill>
        <p:spPr>
          <a:xfrm>
            <a:off x="762120" y="6195960"/>
            <a:ext cx="7619760" cy="6620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838080" y="32004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Alternate Phyllota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838080" y="14932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" descr="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508200"/>
            <a:ext cx="1677960" cy="2435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phyllotaxy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2680" y="3430440"/>
            <a:ext cx="1357560" cy="2513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phyllotaxy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3505320"/>
            <a:ext cx="1295640" cy="221112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533520" y="869760"/>
            <a:ext cx="800100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Opposite Phyllotax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such case two leaves are present at each node, standing opposite to each other. It is of  two subtypes 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posite decuss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posite super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faleaves"/>
          <p:cNvPicPr/>
          <p:nvPr/>
        </p:nvPicPr>
        <p:blipFill>
          <a:blip r:embed="rId1"/>
          <a:stretch/>
        </p:blipFill>
        <p:spPr>
          <a:xfrm>
            <a:off x="838080" y="5410080"/>
            <a:ext cx="7696440" cy="67464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1828800" y="244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Opposite Decuss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33520" y="138744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re pairs of leaves at each successive node are placed at right angle to each other. Eg. Ocimum, Calotropi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340i1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973240"/>
            <a:ext cx="3017880" cy="2314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faleaves"/>
          <p:cNvPicPr/>
          <p:nvPr/>
        </p:nvPicPr>
        <p:blipFill>
          <a:blip r:embed="rId3"/>
          <a:stretch/>
        </p:blipFill>
        <p:spPr>
          <a:xfrm>
            <a:off x="914400" y="5562720"/>
            <a:ext cx="7467480" cy="6620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752480" y="1849320"/>
            <a:ext cx="6629400" cy="26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oncep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Study of the Leaf structure &amp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Phyllotaxy  in pl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faleaves"/>
          <p:cNvPicPr/>
          <p:nvPr/>
        </p:nvPicPr>
        <p:blipFill>
          <a:blip r:embed="rId1"/>
          <a:stretch/>
        </p:blipFill>
        <p:spPr>
          <a:xfrm>
            <a:off x="838080" y="5952960"/>
            <a:ext cx="7620120" cy="905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1905120" y="4726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Oposite Superpo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09480" y="16765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re pairs of leaves at each successive node are placed over each other in same plane. Eg.Eugenia,Quisquali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lfoppo"/>
          <p:cNvPicPr/>
          <p:nvPr/>
        </p:nvPicPr>
        <p:blipFill>
          <a:blip r:embed="rId1"/>
          <a:stretch/>
        </p:blipFill>
        <p:spPr>
          <a:xfrm>
            <a:off x="3046320" y="3430440"/>
            <a:ext cx="2362320" cy="1989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faleaves"/>
          <p:cNvPicPr/>
          <p:nvPr/>
        </p:nvPicPr>
        <p:blipFill>
          <a:blip r:embed="rId2"/>
          <a:stretch/>
        </p:blipFill>
        <p:spPr>
          <a:xfrm>
            <a:off x="762120" y="5791320"/>
            <a:ext cx="7162560" cy="6620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2133720" y="472680"/>
            <a:ext cx="49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Whorled Phyllota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80880" y="159984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this type more than two leaves are present at each node, forming a whorl. Ex. Oleander, Alstonia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alternate_branch"/>
          <p:cNvPicPr/>
          <p:nvPr/>
        </p:nvPicPr>
        <p:blipFill>
          <a:blip r:embed="rId1"/>
          <a:stretch/>
        </p:blipFill>
        <p:spPr>
          <a:xfrm>
            <a:off x="1373040" y="3044880"/>
            <a:ext cx="2087640" cy="2779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lfwhorl"/>
          <p:cNvPicPr/>
          <p:nvPr/>
        </p:nvPicPr>
        <p:blipFill>
          <a:blip r:embed="rId2"/>
          <a:stretch/>
        </p:blipFill>
        <p:spPr>
          <a:xfrm>
            <a:off x="5638680" y="3122640"/>
            <a:ext cx="2210040" cy="2665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6"/>
          <p:cNvSpPr/>
          <p:nvPr/>
        </p:nvSpPr>
        <p:spPr>
          <a:xfrm>
            <a:off x="304920" y="5910120"/>
            <a:ext cx="7543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ff"/>
                </a:solidFill>
                <a:uFillTx/>
                <a:latin typeface="Times New Roman"/>
              </a:rPr>
              <a:t>Purpose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wareness  about the structure of a typical leaf &amp; the types of Phyllotaxy in plants for their mode of arran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faleaves"/>
          <p:cNvPicPr/>
          <p:nvPr/>
        </p:nvPicPr>
        <p:blipFill>
          <a:blip r:embed="rId1"/>
          <a:stretch/>
        </p:blipFill>
        <p:spPr>
          <a:xfrm>
            <a:off x="457200" y="5715000"/>
            <a:ext cx="8001000" cy="662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Category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&amp; Tim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ediu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0-45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faleaves"/>
          <p:cNvPicPr/>
          <p:nvPr/>
        </p:nvPicPr>
        <p:blipFill>
          <a:blip r:embed="rId1"/>
          <a:stretch/>
        </p:blipFill>
        <p:spPr>
          <a:xfrm>
            <a:off x="380880" y="5410080"/>
            <a:ext cx="8001000" cy="6620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Learning Outcom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udent’s awareness about the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Typical leaf struc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Essentiality of various leaf parts in a pl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Familiarity about  Phyllotaxy in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faleaves"/>
          <p:cNvPicPr/>
          <p:nvPr/>
        </p:nvPicPr>
        <p:blipFill>
          <a:blip r:embed="rId1"/>
          <a:stretch/>
        </p:blipFill>
        <p:spPr>
          <a:xfrm>
            <a:off x="533520" y="5791320"/>
            <a:ext cx="8076960" cy="6620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27"/>
          <p:cNvSpPr/>
          <p:nvPr/>
        </p:nvSpPr>
        <p:spPr>
          <a:xfrm>
            <a:off x="0" y="726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8600" y="457200"/>
          <a:ext cx="8686800" cy="5265720"/>
        </p:xfrm>
        <a:graphic>
          <a:graphicData uri="http://schemas.openxmlformats.org/drawingml/2006/table">
            <a:tbl>
              <a:tblPr/>
              <a:tblGrid>
                <a:gridCol w="3138480"/>
                <a:gridCol w="1420920"/>
                <a:gridCol w="1388880"/>
                <a:gridCol w="1204920"/>
                <a:gridCol w="1533600"/>
              </a:tblGrid>
              <a:tr h="17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Lesson f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chn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Tehn-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have an idea about the importanc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f leaf parts in a typical leaf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catagorise the plants on the basis o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yllotaxy,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erbal communi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artly 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429" descr="faleaves"/>
          <p:cNvPicPr/>
          <p:nvPr/>
        </p:nvPicPr>
        <p:blipFill>
          <a:blip r:embed="rId1"/>
          <a:stretch/>
        </p:blipFill>
        <p:spPr>
          <a:xfrm>
            <a:off x="762120" y="6195960"/>
            <a:ext cx="7696080" cy="6620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04920" y="990720"/>
          <a:ext cx="8534160" cy="4800600"/>
        </p:xfrm>
        <a:graphic>
          <a:graphicData uri="http://schemas.openxmlformats.org/drawingml/2006/table">
            <a:tbl>
              <a:tblPr/>
              <a:tblGrid>
                <a:gridCol w="3201840"/>
                <a:gridCol w="1332000"/>
                <a:gridCol w="1333440"/>
                <a:gridCol w="1371600"/>
                <a:gridCol w="129528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a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n 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Module 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Bhartiyavidy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riginal leaf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520" y="2286000"/>
          <a:ext cx="2819160" cy="3068640"/>
        </p:xfrm>
        <a:graphic>
          <a:graphicData uri="http://schemas.openxmlformats.org/drawingml/2006/table">
            <a:tbl>
              <a:tblPr/>
              <a:tblGrid>
                <a:gridCol w="2360520"/>
                <a:gridCol w="458640"/>
              </a:tblGrid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on of Le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arts of typicalLe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mportance of these par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on of 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ypes &amp; subtypes o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53" descr="faleaves"/>
          <p:cNvPicPr/>
          <p:nvPr/>
        </p:nvPicPr>
        <p:blipFill>
          <a:blip r:embed="rId3"/>
          <a:stretch/>
        </p:blipFill>
        <p:spPr>
          <a:xfrm>
            <a:off x="533520" y="6181560"/>
            <a:ext cx="8076960" cy="6764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457200" y="762120"/>
          <a:ext cx="8534520" cy="426708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  <a:gridCol w="1676520"/>
                <a:gridCol w="1447560"/>
                <a:gridCol w="1295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H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n 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Activity: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ession of Q/A on leaf structure &amp; 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y the structure of Leaf through original specimen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ok at the venation in leaf specimens  &amp; study i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Q/A  on moni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eaf 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 throu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74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Question s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Give the definition of lea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What do you call the structure by which leaf is attached at pla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Give the technical term for the mode of arrangement of leaves on pla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How many types of arrangement of leaves in plants are there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faleaves"/>
          <p:cNvPicPr/>
          <p:nvPr/>
        </p:nvPicPr>
        <p:blipFill>
          <a:blip r:embed="rId1"/>
          <a:stretch/>
        </p:blipFill>
        <p:spPr>
          <a:xfrm>
            <a:off x="228600" y="5867280"/>
            <a:ext cx="8381880" cy="4748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07:13:39Z</dcterms:created>
  <dc:creator>nitinkumar</dc:creator>
  <dc:description/>
  <dc:language>en-US</dc:language>
  <cp:lastModifiedBy>LEGION2</cp:lastModifiedBy>
  <dcterms:modified xsi:type="dcterms:W3CDTF">2016-01-13T08:54:15Z</dcterms:modified>
  <cp:revision>36</cp:revision>
  <dc:subject/>
  <dc:title>Leaf structures</dc:title>
</cp:coreProperties>
</file>